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E71528C-5E9C-4206-8738-433A926E769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01717776-5B9F-4D48-A1C3-B524214C501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7453180D-22A2-4469-898C-3F043431E60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EF88C797-2EDD-423E-91B8-A5A4A4A4BEF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BAD8D210-782B-4CBB-A369-502480804C6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B49FDB-1ED0-4709-8657-E93EC97160C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D2ED57F6-4965-472C-A43F-392EEA00CD6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BBA08F1A-D0D9-41A3-BFD8-DE5219DC6AA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B4BECCCD-4647-4B78-9803-4DE6BB09DA7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D6AF986-C5B6-498E-BC20-4288957C398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D4FA8A7-5D00-4F64-94CE-EBAB2C280CD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E05EFC6-70A8-4710-8157-4D2994B7A35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42FA89-66D7-4D76-BA49-A1083289E31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B1C6FF6-DB10-4516-B805-0505EC21B19A}"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C7BF111-491A-46F7-B01B-3E9F13B0153F}"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AEF3FAF-9AA6-48D0-990B-5BF6C07719AC}"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C3DFC4-8FCC-47B8-B7DB-9294D583F1BD}"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604172-9DCA-4A2F-AAD6-D775261CE4BD}"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02478F-404B-4302-8077-1145909B37C6}"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C9ECF59-2AD4-4DCB-9D14-07642B42C7B4}"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FB35DE-4CCD-426B-ADDB-780B61DB547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85BE4B-F90F-4CAB-ABDF-1DEEE3AD862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44A8BE6-AABF-4467-BB76-635A7525FA6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B81599-111C-4FB8-BD92-FE0B85E8855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5F271DAA-040B-462D-873E-C963D8A1AE3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B2EEEB8-6251-4A55-B7F3-0B9F56F576E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A22A6C73-D0F5-4DFA-BCA4-E6146F68578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E88053-29AB-4198-AD43-389BCDE2B83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E6534A6-6262-48C4-A749-9A7D141A83F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2B3DFF3-0BA8-4391-8756-5CF9708BE32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383642-9AD2-4E06-AC1A-D86EB8E219F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F75639-0468-4EBF-8375-A2A04276801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F49137-A04D-4A49-8537-AAFFDFF7AE0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D8F590C-8689-4333-B5C4-C02AE55256E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B41C4D-AC41-4713-B9C1-F3ABDF1EABB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3845C88-516C-47B5-B987-AC1FB7E3D7D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D51EABE-742C-4974-B8AF-A9564F56BBD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3CB59F-B5C0-4844-8AE7-EAD4178C56B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DB7B4D6-5621-4F2F-8D58-35AD3BAE9CD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072EF96-CAA8-4EAF-AF4C-8F22192DCA9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1B9510-2E07-446D-8D83-E9BD4CBC3C1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AC29146-DBDA-4D88-A05A-3A65DEF6F94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350D8E-21B0-472A-9B5C-CDC515FF63A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2B9E224-E867-464B-AF00-D06C2040368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969F03-C8D1-46AB-B3F7-52A6142FB33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2EDD850-8EC6-4497-AAB6-B0499416506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AC8151-2485-420C-AFEF-D26D2C8D37B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49FC6D0-76EC-4C00-84DE-A5682CE39A19}"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6985EC8-817B-4F4F-B229-0DBEBC21E08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83739D-9F0C-4E4C-B6C0-4CF0CA84B6B0}"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16E3AA12-5029-474E-AC3F-3A26F9E3A2AF}"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F86685-367C-477E-A686-4F3EC23D6AC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BE1E9F-2BAB-46D2-AE7F-8C9E48BDD94F}"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55730C-C437-4F95-8A47-0AB0E676F25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FA6090-C1C2-43A4-A8A6-1C396F2E7A35}"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3FDF7A0-DBBA-40FA-98FE-2B6F209C8F1A}"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6C1B30-C92D-41A8-B4F1-1F741B37EC53}"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58560A-8B83-4168-8929-1685BBC31017}"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01822A0-8CF5-4726-A8A0-DE266F331719}"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D36C7D-0F8B-47C7-86FD-D380EC0B3E1C}"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2DBB2B55-D98E-4F52-9467-E69528172FCD}"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BAAE72B-2D93-4368-B435-B3F06006775D}"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50E55D0-3B78-46E4-958A-F62C891732FE}"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E4A50A-20A9-496A-BE70-91996660A59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51F09E-82AB-4103-8BBD-8323144EA393}"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14941B9-3890-429B-B2C1-8F0AF6457F42}"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6571FF-93BB-46D3-9C78-063F4923C0D2}"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B2BFDC-FB09-4525-A4C1-F270B52F134C}"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4EFBC09-7409-482F-9BF1-F28DA13A8B1B}"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B3D1E3-7A1E-403D-B0AC-DF4337AEF023}"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6032D5-418F-400C-AC28-3CCF50E9811B}"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15EA9C6F-69DE-4E06-B47C-03556B2D2ACF}"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E9D61D3-B580-4D86-9256-28C08468165A}"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9851FC-F103-460F-A834-DF8763412304}"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F8B994D-3FA5-4DD8-B358-46F5EDCFB7EB}"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7187685-60D9-48A2-A92D-E3EEBEA8EB7F}"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AFA986-04B2-4CBE-8FC8-EFCD29F7AD60}"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EA12EA-0F57-47FA-8417-AFDAA000BF13}"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026F2F-B8BC-4351-ABA0-A24C777E04CB}"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B845BE1-53DE-4107-BCCC-D84EB5C12CBE}"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87C8F98-9B6A-4DFF-AB08-E6A76A63F690}"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266362-06A1-4D4D-9BB6-0AD9C37D5DA9}"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EC8250-1E78-4607-AE88-286E3EE1AAD3}"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E096F40-33EC-4DD0-8022-1EC58095F5CB}"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521641-5928-4917-A5A1-87FBE23AC344}"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4ED568A-79B3-4DFC-B0E2-AA3901C43435}"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BD95925-C65A-41EC-8DB2-085CC2190005}"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1005B4-BFB6-4DB9-9163-44DB5F02EE56}"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31D370D-6648-46D9-9A12-D4139C7825A8}"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4D9A86-E1B9-4BC1-827A-B8BD432874FC}"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41E8D5D-620B-409D-9ADA-323AAA68790F}"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F3BBEE-3392-4709-9D16-FEBDBD24DE91}"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0BA988-991C-4714-A5DB-2239E67406DC}"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4168E6-FD8E-4FCE-8DF1-11E3A577B0C3}"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66B4A1-3E3E-432D-8849-82C3BDF6E97D}"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4A1B5A-1404-4C10-8867-CE6BD2C20263}"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8B30AF-7E3C-4969-B349-88BEC19D1D6B}"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9C53D9B-E094-4BC3-AC3F-FC7F80EF1267}"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9FF513-2BF6-4D19-B03D-A24B5DBFCCBB}"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FB4442-C2A1-4209-B452-1A620A492262}"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2E39CCA-70A7-452D-92EC-63A97D5D1B8B}"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ED2C00-D2D2-41B5-B8DB-1EA64C1F4339}"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9E2BCFA-2F3C-4D4B-B698-2315453074FB}"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7159A3-FC52-44F5-A9F5-472B4AEF6A8C}"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53C1425-AF74-4C02-8875-B4D15064AE53}"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044EE2-C2C2-41E6-849C-D5E78937BDFE}"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A3C83C-F2F9-45BD-A41E-B93C4AECE0E5}"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E1A3512-3B6C-4798-81E6-F066D78E3B5A}"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97DFC7-05F2-4AA1-913A-32B3167FECD1}"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09C7995-35BF-4647-BD42-2D7008E9D39A}"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E9F9FA-D19F-4F17-8E3F-8D6FC421F5E8}"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109EC5E-FB9A-4E8B-927F-564646C156FF}"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11FC00A-1019-445F-9D80-F75610FA36AD}"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E45B440-DE85-4246-B7E4-F9E69A5EDFCD}"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9DEC60D-584C-4041-99E2-215C29A4AABE}"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34FF73-836D-40E7-87CD-3ACE83C9AF2C}"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F512DF-6528-4840-85F1-9B2E392C48F4}"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